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B9E0-114F-468A-8C12-0B27A65EF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B2D7-A6C5-4A87-AF18-CBEC1E8CB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103C-4535-4ED4-828E-BAD64AF09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6989-329F-4416-AE75-F8D8A6185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AA66-787F-445F-AAA2-9E7C06DD5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 нашој земљи рецепти се прописују на одговарајућем штампаном обрасцу са холограм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8348-2459-405F-9D6D-C1335ED45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 Републици Србији лекарски рецепт је јавна исправа, документ и када је правилно попуњен, потписан и оверен печатом може се користити и као врста доказа на су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F1A3-E3EB-4F5F-983F-5F62D634F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3DDD-91E0-4DA5-807A-1FB46BCEF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8E65-7D0D-4D2D-B38A-2B1D7A29D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F730-9A52-45A3-B217-072EF1FC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1000-C7F6-445E-A803-5989D1EFA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D927-888B-468F-885F-8B9D2FEC3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1653-1CD6-46B6-A957-BDAD4DCE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63DD-0F7A-45EF-BD0E-8A9AAD83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4BD8-3C8E-4097-936A-09EBC7F9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EBEB-FE61-45EB-834C-04A4D4E9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2A74-9C31-41A2-92F2-D278CD2E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DF06-484C-4AB4-95FD-FEA74F1D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D46B-4584-4E4A-A404-C06FDB09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6CEB-E481-4F67-9EC0-0F20BA13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56E5-C2CE-4ED1-8B5E-99926EBCEA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980640"/>
            <a:ext cx="7993080" cy="18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И15- Стручна студентска прак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7280" y="2924280"/>
            <a:ext cx="6585120" cy="20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Издавање лекова на рецепт. Образац рецепта, прописи који регулишу ову област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Делови обрасца рецеп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Calibri"/>
              </a:rPr>
              <a:t>Ordinat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dinatio или Praescriptio је најзначајнији део рецепта који садржи назив, облик и количину лековитог препара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Овај део рецепта се различито пише код магистралних, галенских и готових леко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88581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Делови обрасца рецеп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85840" y="1356840"/>
            <a:ext cx="85723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Calibri"/>
              </a:rPr>
              <a:t>Subscript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Део лекарског рецепта који садржи упутство о начину припремања и издавања, односно паковања лек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Упутство се пише на латинском језику и различито је за готове, магистралне и галенске препарат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Пр.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Misce fiat pulvi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a tales doses Nº X (decem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Пр. Da scatulam originalem Nº I (unam)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Лекари у пракси врло често користе униформну изреку: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Occlusionem praeformatam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или скраћеницу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O.p.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 што значи “оригинално паковање” или “претходно упакован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57120" y="274680"/>
            <a:ext cx="832968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Делови обрасца рецеп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56760" y="1213920"/>
            <a:ext cx="85726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200" spc="-1" strike="noStrike">
                <a:solidFill>
                  <a:srgbClr val="000000"/>
                </a:solidFill>
                <a:latin typeface="Calibri"/>
              </a:rPr>
              <a:t>Signatu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Део рецепта који садржи упутство за примену лека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Ако је прописани лек намењен да се примењује од стране пацијента пише се на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матерњем језику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а ако се примењује од стране здравственог радника на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латинском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Наведени део рецепта увек почиње речју Signa (Означи) или скраћеницом 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Пр.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S. На осам сати по једну таблет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S. Ad manum medici! – У руке лекару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Ако је препарат намељен за спољашњу примену обавезно овај део започети речју Спољ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Пр. S. Споља намазати оболело место у танком слоју, три пута дневн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6760" y="274320"/>
            <a:ext cx="857268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Делови обрасца рецеп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5840" y="1142640"/>
            <a:ext cx="85723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Calibri"/>
              </a:rPr>
              <a:t>Nomen medi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следњи део рецепта који обухвата лекарски потпис, факсимил ординирајућег лекара и печат здравствене установе у којој је рецепт изда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7138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Издавање лекова на рецеп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50560" y="105264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Приликом прописивања рецепта користи се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српски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латински језик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као и римски и арапски бројеви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Латински језик се користи у делу рецепта у коме се лекар обраћа фармацеуту и приликом писања назива имена дрога, хемијских компоненти или галенских препарат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Називи се пишу у складу са Националном фармакопејом, пише се Великим почетним словом док се преостале речи које стоје уз ту именицу пишу малим словим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Пр.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quae purificatae ad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рпски језик се користи за навођење упутства пацијенту како ће неки лек да се користи код готових препара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.:  Попити по једну таблету на 12 са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2560" y="142920"/>
            <a:ext cx="871524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рописивање гот</a:t>
            </a:r>
            <a:r>
              <a:rPr b="1" i="1" lang="sr-Latn-RS" sz="36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вих леко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85840" y="999720"/>
            <a:ext cx="857232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азив готовог лек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 ординацији се пише увек у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ОМИНАТИВ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једни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Облик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лека који треба издати такође се наводи у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ОМИНАТИВ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једнине/множи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Готови лекови се издају у оригиналном паковањ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четак супскрипције је речју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чији императив належе фармацеуту да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Изд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дређени ле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 супскрипцији се такође наводи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колико оригиланих паковањ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треба издати пацијенту што се наводи римским бројем и латинском речју одређеног броја у заград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меница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блика у коме се лек издаје и придев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з њу се увек наводе у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акузатив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једнине/множи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.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a scatulam originalem N</a:t>
            </a:r>
            <a:r>
              <a:rPr b="0" lang="pt-BR" sz="2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 (unam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Издај једну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оригиналну кутиј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a scatulas originales N</a:t>
            </a:r>
            <a:r>
              <a:rPr b="0" lang="pt-BR" sz="2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II (duas) –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Издај две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оригиналне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кут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3296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рописивање официналних леко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57120" y="1714320"/>
            <a:ext cx="83296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о је састав и начин израде официналних препарата детаљно наведен у фармакопеји довољно је написати назив лековитог препарата у ординацији, његов облик (ако већ није садржан у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азиву препарата) и количин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Нази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лековитог препарата  се пише у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генитиву једнин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облик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генитиву једнине/множин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 супскрипцији треба написати у чему да се изда наведен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личина лека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Облик паковањ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е наводи у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акузатив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50104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Прописивање магистралних лек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85480" y="1500120"/>
            <a:ext cx="86439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агистрални препарат- израђује се према пропису лека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За ове препарате морају бити наведени састојци препрата (називи састојака пишу се у генитиву) и њихове количине (написане арапским бројевима), начин припремања као и у чему се издаје такав препара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авођење супстанци у ординацији мора бити следствено, тј. једна испод друге треба да се навод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Издавање лекова на рецеп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азив 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готовог лека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а рецепту мора бити написан 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пуним именом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ј. без употребе скраћениц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азив 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галенског или магистралног лека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е на рецепту исписује на 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латинском језику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ема називима из Националне фармакопеје при чему је могуће користити скраћенице ако је то предвиђено Националном фармакопеј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Издавање лекова на рецеп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4000" y="1599840"/>
            <a:ext cx="8424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Приликом прописивања готовог лека на рецепту треба означити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јачину тог лека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, која се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изражава у грамима арапским бројевима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Ако се лек у промету налази у одређеном паковању лекар на рецепту треба да напише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римским бројевима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колико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таквих паковања би требало да се изда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Ако је потребно издати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више од једног паковања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то мора бити означено речима на латинском језику – </a:t>
            </a:r>
            <a:r>
              <a:rPr b="1" lang="sr-Latn-RS" sz="2800" spc="-1" strike="noStrike">
                <a:solidFill>
                  <a:srgbClr val="000000"/>
                </a:solidFill>
                <a:latin typeface="Arial"/>
                <a:ea typeface="Arial"/>
              </a:rPr>
              <a:t>Necesse est!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потребно је, неопходно је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Издавање лекова на рецеп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Рецепт за издавање лекова у Републици Србији могу да пропишу искључиво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доктори медицине и стоматологије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Закон о производњи и промету лекова у нашој земљи дефинише који се лекови могу прописивати на рецеп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Рецепт је писано упутство лекара (стоматолога) које је намењено фармацеуту али условно и самом болесни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Лекове који имају режим издавања на рецепт може издати само овлашћено лице, тј. лице са положеним државним испит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Издавање лекова на рецеп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56760" y="1285560"/>
            <a:ext cx="85726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Ако је на рецепту прописан готов лек који у промету постоји и разним облицима, јачинама а лекар не назначи тачну јачину лека коју треба издати, овлашћено лице је дужно да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обавести лекара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који је прописао рецеп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зда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ајподеснији облик лека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 обзиром на карактеристике лека и индикацију приме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зда лек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ајмање јачи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зда лек у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ајмањем паковањ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800" spc="-1" strike="noStrike">
                <a:solidFill>
                  <a:srgbClr val="000000"/>
                </a:solidFill>
                <a:latin typeface="Calibri"/>
              </a:rPr>
              <a:t>На рецепту се обавезно мора назначити облик и јачина издатог ле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Издавање лекова на рецеп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 случају да је лек потребно хитно издати због индикације онда на рецепту лекар треба да стави назнак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"cito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брзо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"statim“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одмах) и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"periculum in mora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опасно је оклевати)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Издавање лекова на рецеп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ко лекар прописуј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дозу која је већ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д максимално прописане дозе у фармакопеји или другим прописима онда је потребно да ту дозу назначи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РЕЧИМ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да стави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и свој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ОТПИ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поред доз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Издавање лекова на рецеп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ада је рецепт прописан на одговарајући начин и ако здравствена установа поседује прописани лек онда је здравствено лице дужно да изда такав лек пацијент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влашћено лице без договора са лекаром који је прописао лек не сме уместо прописаног лека да изда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лек сличног састав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Издавање лекова на рецеп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акође је у случају тренутног непостојања прописаног лека у здравственој установи овлашћеном лицу дозвољено да изда лек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истог састав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ји се у промету налази под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другим имен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при чему је за то неопходан пристанак осигураног лица и замена мора бити назначена на рецепт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Издавање лекова на рецеп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ко лекарски рецепт није јасан онда овлашћено лице такав рецепт враћа лекару на адекватан начин и уз адекватно образложењ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 случају прописивања доза које су изнад максималних препоручених доза а уз непостојање адекватних ознака за то онда се издаје лек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у средњој терапеутској доз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направљена исправка се нотира и надлежни лекар се накнадно информише о том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Издавање лекова на рецеп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Након прописивања лекарски рецепт важ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15 </a:t>
            </a:r>
            <a:r>
              <a:rPr b="1" lang="sr-RS" sz="3000" spc="-1" strike="noStrike">
                <a:solidFill>
                  <a:srgbClr val="000000"/>
                </a:solidFill>
                <a:latin typeface="Calibri"/>
              </a:rPr>
              <a:t>дана 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од дана прописивања рецепта за велики број лековитих препарата, осим  за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наркотике (рецепт важи 7 дана од дана 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прописивања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антибиотике (рецепт важи 3 дана од дана  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прописивања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лекове са Д листе (рецепт важи 30 дана од дана  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прописивања)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роценити исправност прописаних рецепа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37040" indent="-4370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Rp./  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Midol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tabl. 0,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7040" indent="-437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Da scatulam originalem N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II (unam)         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S. Svakog dana uzeti po jednu table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7040" indent="-437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7040" indent="-4370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Rp./ Citeral tabl. 0,5      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7040" indent="-437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Scatulas originales N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II (duas)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7040" indent="-437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Sig. 2x1 tableta dnevno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7040" indent="-437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7040" indent="-437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7040" indent="-437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Образац рецеп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Према Правилнику о начину прописивања и издавања лекова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"Sl. list SRJ", br. 16/94, 22/97 i 52/2002 i "Sl. list SCG", br. 1/2003)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на лекарски рецепт се може прописати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само један лек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само за једног пацијент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Издавање лекова на рецеп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928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зузетак од претходно наведеног правила да на рецепту може бити прописан само један лек представља прописивање магистралних и галенских препарата када се пишу лек и његова подлога где су наведени делови одвојени ознаком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ко не постоји довољно простора за навођење свих компоненти лековитог препарата (код магистралних) онда се може наставити прописивање на полеђини рецепта при чему на дну прве стране обавезно стоји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erte! - окре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Издавање лекова на рецеп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ецепт може бити писан руком или попуњен електронским пут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епорука је да се код ``ручно писаних`` рецепата рецепт попуњава писаним словима, читко и то са плавим или црним мастилом (оловком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описивање рецепата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графитном оловком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ли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оловком у боји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није дозвољено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Издавање лекова на рецеп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описивање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опојних дрог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захтева прописивање рецепта у два примерка са обавезном назнаком ``Копија`` на другом рецепту и редним бројем рецепта који се уноси у евиденциону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књигу наркоти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Грешке на рецепту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огу бити кориговане уз обавезно стављање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отписа и факсимил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адлежног лекара који је прописао рецеп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Делови обрасца рецеп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елови рецепта с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it-IT" sz="3200" spc="-1" strike="noStrike">
                <a:solidFill>
                  <a:srgbClr val="000000"/>
                </a:solidFill>
                <a:latin typeface="Calibri"/>
              </a:rPr>
              <a:t>Inscript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it-IT" sz="3200" spc="-1" strike="noStrike">
                <a:solidFill>
                  <a:srgbClr val="000000"/>
                </a:solidFill>
                <a:latin typeface="Calibri"/>
              </a:rPr>
              <a:t>Invocat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it-IT" sz="3200" spc="-1" strike="noStrike">
                <a:solidFill>
                  <a:srgbClr val="000000"/>
                </a:solidFill>
                <a:latin typeface="Calibri"/>
              </a:rPr>
              <a:t>Ordinat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it-IT" sz="3200" spc="-1" strike="noStrike">
                <a:solidFill>
                  <a:srgbClr val="000000"/>
                </a:solidFill>
                <a:latin typeface="Calibri"/>
              </a:rPr>
              <a:t>Subscript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it-IT" sz="3200" spc="-1" strike="noStrike">
                <a:solidFill>
                  <a:srgbClr val="000000"/>
                </a:solidFill>
                <a:latin typeface="Calibri"/>
              </a:rPr>
              <a:t>Signatur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it-IT" sz="3200" spc="-1" strike="noStrike">
                <a:solidFill>
                  <a:srgbClr val="000000"/>
                </a:solidFill>
                <a:latin typeface="Calibri"/>
              </a:rPr>
              <a:t>Nomen medi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9308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Делови обрасца рецеп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920" y="1125360"/>
            <a:ext cx="864216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Calibri"/>
              </a:rPr>
              <a:t>Inscripti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Део рецепта који садржи податке о болеснику и здравственој установи тј. здравственој документациј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одаци у овом делу обухватај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азив здравствене установ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ме и презиме осигураног лиц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Датум рођења осигураног лиц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Број здравствене књижи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Број картона протоко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Д број лека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Шифру дијагнозе / Шифру прописаног ле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Датум прописивања ле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снов ослобађања од партиципа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Држав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Делови обрасца рецеп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Calibri"/>
              </a:rPr>
              <a:t>Invocat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во је најкраћи део рецепта и обухвата само скраћеницу Rp. која потиче од латинске речи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cipe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чији је глаголски облику у императиву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cip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и значи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УЗМИ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ео рецепта који представља налог лекара фармацеуту у следећем контекст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зми следеће супстанце или лековите препарате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9T10:10:35Z</dcterms:created>
  <dc:creator>Olja</dc:creator>
  <dc:description/>
  <dc:language>en-US</dc:language>
  <cp:lastModifiedBy>Maca</cp:lastModifiedBy>
  <dcterms:modified xsi:type="dcterms:W3CDTF">2017-01-29T15:00:56Z</dcterms:modified>
  <cp:revision>59</cp:revision>
  <dc:subject/>
  <dc:title>И15- Стручна студентска пракса</dc:title>
</cp:coreProperties>
</file>